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0B6-64DF-4BA2-8513-8938CE53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B02-7731-408F-B382-EEDD7F5E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510-9C0A-44F3-AF26-915D40AD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630-4BA9-41FA-90D1-7823A083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CF8F-8B2F-43A0-80E8-29FBF148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CAF0-26E3-435F-B936-9A099CB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6C01-5030-4872-A3C2-44CE53B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32B-3C89-49EE-B172-C8DA957F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468F-D584-43C7-8588-A6B51C9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9E7B-8A33-4625-9E2E-2A081EC2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AE31-B5D0-43B1-9670-2997235F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47A-817E-4394-9672-CA641D14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BF9-AB95-4559-BE3C-2A81854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9FC3-FE0B-448D-B0D5-C5FF0ED1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5A66-33D7-486C-9DCB-B72EFC1E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5E87-22AB-45DD-BBD7-11182B7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967F-7D88-4810-95B9-B0EDE5F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F56-B6C7-4797-939F-AD956DC1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093-9299-46A4-9F2F-6E32D150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9C3-A526-4BF7-8BE8-718EF55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53B-DCFA-4F7F-86B0-106970D4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0F2-F076-4259-B521-21D40CA8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537-427D-402D-9D11-37737DC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10F-E563-4A2A-B64B-8AE6C37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582B-7695-48B0-924D-FC754E0FE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B1B6-A817-40D5-8964-DA7CE9067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2" descr="C:\Users\Leslie\AppData\Local\Microsoft\Windows\Temporary Internet Files\Content.IE5\5LTV4UFA\MC900439405[1].jpg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9080" y="1600200"/>
            <a:ext cx="525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2:33:06Z</dcterms:created>
  <dc:creator>Leslie Colosimo</dc:creator>
  <dc:description/>
  <dc:language>en-US</dc:language>
  <cp:lastModifiedBy>Leslie Colosimo</cp:lastModifiedBy>
  <dcterms:modified xsi:type="dcterms:W3CDTF">2011-05-01T02:35:41Z</dcterms:modified>
  <cp:revision>1</cp:revision>
  <dc:subject/>
  <dc:title>Slide 1</dc:title>
</cp:coreProperties>
</file>